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796-C5C9-4EB4-B79C-C68BF90A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706-2653-4F78-8CA9-B9FC7E6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DF0-F18B-4AF2-A794-4A8CB47F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E80-3FE7-48F7-886C-04B35E52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F872-61F5-489A-BC16-494AEAE6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F7F-3F61-4CE0-8F9E-8871A99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41B1-194A-4622-9803-C576D09E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E54E-A31F-4C65-9B39-716E4A8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2BE8-8FD2-49C5-93A7-F2F4BD9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FD9B-6D19-46C3-8193-6C5860C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9854-9C2E-4BFF-9C0B-FE544FE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083-F633-444C-9647-5AB7040B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7B93-3303-4AA2-A29E-3671F8C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D1B2-B74A-4E65-9EE0-4F6077F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6A74-FFB4-4BF5-9EF9-C1F9BBD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DB82-AAAE-437A-B4AD-5CB1A877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EA56-76D0-437F-9F02-1A92C0D4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D55F-EF9B-4C15-A825-03753B82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75A8-8EFE-41E1-B8AA-ED77BE6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8144-F87F-471D-8594-E96C0287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CE92-F46E-444D-8B51-886E678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4CF5-B07B-49CE-8043-2807FC7E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485-4D1B-4728-B17C-A24429C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D318-2ED7-44E5-8864-7354E55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2ED0-14A1-4F07-8641-4AAFDC2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E0DA-525D-470E-84E5-D8BFB604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5C61-7CF3-4C49-891C-E82A4F8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0CAF-4D4C-4672-84A0-301B7B9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4A1F-8098-4002-95B7-F5EF84C2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4E61-EE23-4741-BAD0-4B46CDE0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E4E3-E0B9-4E00-B088-373A056D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8529-B1BA-4BA1-9B2A-C7B7B06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5A22-CB62-40E4-9CD1-100E7FD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1FD-D997-49E7-AB92-E099277A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2847-0C8A-486F-A790-FA5DFFAF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B190-D2C0-41B2-A6B6-72D7B12C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3409-2371-4CB4-96DC-A2FA2CE4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1EB2-7CD4-4251-86B9-984513C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CAFC-8C5E-4342-98F6-3D50367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9778-FF0B-4D8C-9977-408E566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72C1-0718-45B6-894F-62A0EE4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541B-F3EC-4BF5-8BE7-F37F1807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D8A6-37DC-4E38-830F-436272EA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03CF-5FDF-463E-8930-C6962B1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388-7C68-4F15-897E-9A46C3B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D529-C546-4D71-BF8C-29A6B63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C4F8-CDE8-4F6E-AA0E-7F5FC58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6805-939F-4DC6-AD11-01D7853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3507A-7F6D-4269-8A7B-E09A195A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B4BB-A271-46CE-9DFC-55AA319D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7E0A-1B4B-4486-A1FD-4BD9F07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281A-4D03-4BBF-B203-9227B32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37DCE-216C-46A8-A04D-C045216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8694-015F-4C94-8A45-88D6940B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7CFF7-9BAD-493D-A382-74ACC9DE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CA9-8900-419A-BEA0-290AAD34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CC5AB-366F-4114-B6B2-2638CCDF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7D555-BAB6-424F-A29E-D458C193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C4F5B-CB25-4E47-8BB6-CDBE499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95E2-B5D0-4C85-AE31-2D0A7F8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00B8-E9B9-4E3D-B4BD-A4DED74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75FC-1304-4661-B39A-77D76CC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83A0-040D-4ED3-B439-4463E6E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2CFE-4809-4128-98F9-BAEF20E5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FEE4-9CB5-4ED7-B063-3B1AB84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45D5-A345-4746-BFE8-9BF2A85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A51-E7B4-4BD2-8D03-6B7A542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0A54-D568-468B-A189-0B291D9B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5F6D-2B7B-497B-86CD-79DB2221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1C854-5AD0-48D4-BA43-F38AB694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7FC-4482-4F7B-8297-7940FC7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5BF-B7B7-4D23-9F5C-55B3ED38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2A95-C121-43FA-A561-9998E165E42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33B0-DB33-4A8F-A4A6-C67375D136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C153-5B89-45A1-ACC7-1685D869662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883C-F7EA-42A5-B2B6-9BAC0177ADB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0DF-7B8E-4953-BD9E-1C6A404F18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49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250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6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268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272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76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80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985B-1E65-4D16-973C-135B130112E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еформация и становление Англии при Тюдорах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99720" y="3714480"/>
            <a:ext cx="639612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Выполнил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0040" y="1643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акое место в истории Англии занимает династия Тюдоров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Monotype Corsiva"/>
              </a:rPr>
              <a:t>http://www.uk.ru/history/tudors.htm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Monotype Corsiva"/>
              </a:rPr>
              <a:t>http://ru.wikipedia.org/wiki/%D0%A2%D1%8E%D0%B4%D0%BE%D1%8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Monotype Corsiva"/>
              </a:rPr>
              <a:t>http://www.erudition.ru/referat/printref/id.26454_1.htm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windows</cp:lastModifiedBy>
  <dcterms:modified xsi:type="dcterms:W3CDTF">2009-11-28T13:26:07Z</dcterms:modified>
  <cp:revision>62</cp:revision>
  <dc:subject/>
  <dc:title>Слайд 1</dc:title>
</cp:coreProperties>
</file>